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gif" ContentType="image/gi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93B4-9A66-4095-8F5D-10E3B007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C054-A3A3-496F-A50C-756E4219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D54D-1C6E-44F6-A999-746DC2D3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1F43-25DB-4ED2-A804-C08F710B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8A7F-BEA5-48E3-9064-B8CEAD06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49D4-314A-4B25-995D-587FA7E4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F446-9809-4351-9D13-533E87FD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A5D9-B90E-4028-A6ED-B9693169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132D-AD81-441D-9A61-42A11E93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070C-B4F9-448C-B871-4DCA3E3B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148A-AE14-40F8-9C10-C3FFFD13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E2BC-CE21-4115-8A80-A82C8BBB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7809-3803-471E-BC93-656B14C6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09E2-2023-41E0-B62D-41D0B53C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5D53-A7E0-47DB-8C0C-48FF87DC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6F01-A292-4CF7-A8D8-AB528579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A662-5E4B-472B-B209-4B5E8DC84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FA99-FA96-40D4-8CD4-9CA4D9D5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FB34-7450-4177-AEBA-25D02B51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6C6C-054B-4D0B-AC39-A0798C95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7AC5-04A1-4900-B229-CD44C538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ADE7-FB0B-4617-AFF3-4029A4F2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495C-B8E2-46BF-A164-19259C78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B346-704E-4DFB-B41B-9834066C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0C3B-15C2-46AA-AD4F-37B84258B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A727-CBD4-4A61-887B-1833C5ACC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hythm &amp; Rhy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more spirited language makes humorous situations even more humoro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143000" y="2057040"/>
            <a:ext cx="6934320" cy="34290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he Porcupine”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By Ogden Nash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hound a porcupine nud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’t be blamed for harboring grudg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know one hound that laughed all win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a porcupine that sat on a splin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76680" y="1522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take away the rhythm and rhyme, the humor vanish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467480" cy="34290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 hound that touches a porcup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’t be blamed for holding a grud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know one hound that laughed all winter lo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a porcupine that sat on a piece of w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wis Carroll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832-189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rn in Engl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ot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lice’s Adventures in Wonderl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ot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rough the Looking Gla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s life was quiet and uneventful, but in works lik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ather Willi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he found escape from his serious work into a delightfully zany, topsy-turvy world that still amuses children old and you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ther William”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age 4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is poem, a young man questions his father about some rather unusual behavi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you ever asked someone what they were doing and received an explanation that made very little sense at al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limerick is a poem of five li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, second, and fifth lines have three rhythmic beats and rhyme with one an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hird and fourth lines have two beats and rhyme with one an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are always light-hearted, humorous poe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086600" cy="36576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with no hai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gave everyone quite a sca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got some Rogain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w out a man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now he resembles a bear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4" descr="j0336472"/>
          <p:cNvPicPr/>
          <p:nvPr/>
        </p:nvPicPr>
        <p:blipFill>
          <a:blip r:embed="rId1"/>
          <a:stretch/>
        </p:blipFill>
        <p:spPr>
          <a:xfrm>
            <a:off x="6553080" y="46483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 About a B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6553080" cy="36576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ish that my room had a floor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don’t care so much for a do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this walking ar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out touching the gr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getting to be quite a bo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4" descr="j0304465"/>
          <p:cNvPicPr/>
          <p:nvPr/>
        </p:nvPicPr>
        <p:blipFill>
          <a:blip r:embed="rId1"/>
          <a:stretch/>
        </p:blipFill>
        <p:spPr>
          <a:xfrm rot="21444600">
            <a:off x="990720" y="4419720"/>
            <a:ext cx="758880" cy="915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j0304465"/>
          <p:cNvPicPr/>
          <p:nvPr/>
        </p:nvPicPr>
        <p:blipFill>
          <a:blip r:embed="rId2"/>
          <a:stretch/>
        </p:blipFill>
        <p:spPr>
          <a:xfrm>
            <a:off x="6324480" y="4419720"/>
            <a:ext cx="758880" cy="915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Limeri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010280" cy="289548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very small mou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 lived in a very small hous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cean’s spr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shed it away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at was left was her blous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j0344852"/>
          <p:cNvPicPr/>
          <p:nvPr/>
        </p:nvPicPr>
        <p:blipFill>
          <a:blip r:embed="rId1"/>
          <a:stretch/>
        </p:blipFill>
        <p:spPr>
          <a:xfrm>
            <a:off x="533520" y="533520"/>
            <a:ext cx="1652400" cy="138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ill create a limerick similar to this one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12408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from Beij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his life he hoped to be K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he put on a cr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quickly fell dow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small silly man from Beij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0228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ll in the blanks and create your own Limerick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327672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_____ from 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e while she/he hoped 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she/he ________________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____________________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_________ from ___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lliter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tition of initial consonant sou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llus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ference to a well-known person, place, event, literary work, or work of a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Ball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ong-like poem that tells a st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Blan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Ver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etry written in unrhymed, ten-syllable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rs. Smith’s Limerick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2004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from Jap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e while he hoped for a t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he lay on the beach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ate a ripe peach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came from a Georgia v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Concre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em with a shape that suggests its subj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igur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angua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ing that is not meant to be taken literal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Ver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etry not written in a regular rhythmical pattern or me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Haik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hree-lined Japanese 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7720" y="304920"/>
            <a:ext cx="769644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ma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word or phrase that appeals to one or more of the five sen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yr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ly musical verse that expresses the observations and feelings of a single spea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etaph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igure of speech in which something is described as though it were something el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304920"/>
            <a:ext cx="746784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oo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eeling created in the reader by a literary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Narr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tory told in 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Onomatopoe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 of words that imitate sou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ersonific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ype of figurative language in which a non-human subject is given human characteris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6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fra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gularly repeated line or group of lines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peti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, more than once, of any element of 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tition of sounds at the end of wo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che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gular pattern of rhyming words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71629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th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ttern of beats or stresses in spoken or written 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imi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that use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make a direct comparison between two unlike ide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tan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ormal division of lines in a poem considered as a un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4038480"/>
            <a:ext cx="4038840" cy="474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My love is like a red rose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4" descr="j0288858"/>
          <p:cNvPicPr/>
          <p:nvPr/>
        </p:nvPicPr>
        <p:blipFill>
          <a:blip r:embed="rId1"/>
          <a:stretch/>
        </p:blipFill>
        <p:spPr>
          <a:xfrm>
            <a:off x="5715000" y="3657600"/>
            <a:ext cx="1600200" cy="1309680"/>
          </a:xfrm>
          <a:prstGeom prst="rect">
            <a:avLst/>
          </a:prstGeom>
          <a:ln w="0">
            <a:noFill/>
          </a:ln>
        </p:spPr>
      </p:pic>
      <p:sp>
        <p:nvSpPr>
          <p:cNvPr id="161" name="Line 7"/>
          <p:cNvSpPr/>
          <p:nvPr/>
        </p:nvSpPr>
        <p:spPr>
          <a:xfrm>
            <a:off x="5105520" y="4343400"/>
            <a:ext cx="6094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or &amp; Poe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um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510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or in poetry can arise from a number of sourc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urpris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xagger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ringing together of unrelated thing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funny poems have two things in comm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hyth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hym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4" descr="j0078722"/>
          <p:cNvPicPr/>
          <p:nvPr/>
        </p:nvPicPr>
        <p:blipFill>
          <a:blip r:embed="rId1"/>
          <a:stretch/>
        </p:blipFill>
        <p:spPr>
          <a:xfrm>
            <a:off x="5791320" y="1600200"/>
            <a:ext cx="291600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21:46:37Z</dcterms:created>
  <dc:creator>Jessica Smith</dc:creator>
  <dc:description/>
  <dc:language>en-US</dc:language>
  <cp:lastModifiedBy>Forest Hills</cp:lastModifiedBy>
  <dcterms:modified xsi:type="dcterms:W3CDTF">2010-01-26T22:26:26Z</dcterms:modified>
  <cp:revision>7</cp:revision>
  <dc:subject/>
  <dc:title>Poetry</dc:title>
</cp:coreProperties>
</file>